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D260-32EB-426D-B840-01BDB3C2B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3AF5-29B8-4983-A0D5-E7E5BB6E6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C98-C0C3-4E61-A96C-109AF06E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139-63F6-433D-A426-3CCD548C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108-A4D0-47DE-8B1F-2400B694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F3B-2CDD-447A-8599-4DE01DD2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11B-4875-402C-8821-59FAE586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E6D-6267-483F-ACDD-E1874C36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63A-9EA8-4AE1-868F-BBF6A3F0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941-F405-4DAB-BCDF-33F88B9E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EA6-4468-49A7-9F44-0EB77451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6F9-63F1-4973-BC0E-523D5328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699-0B87-4D4C-9E80-F7CA45B4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F69-4573-46E7-9107-52689D39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827B-C3B2-466E-9E04-9B3606A54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arlene Luce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harlene Luc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36828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             232 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05320"/>
            <a:ext cx="203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Sharlene. Yo vivo en Nueva York. Yo tengo catorce años. Yo tengo 1  hermano.Yo soy amable y energ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lo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t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1055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v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Mar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amos a ir a en la tarde, Melody. Si alguien quiere a ir a con nosotros, pueden 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r a Baskin Robbins en Floral Park, Nueva York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elod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Sharlene! Yo voy contigo. ¿Cuando vamos a i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Decembre 7, de 2012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Shar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s!…. Quien quiere comprar helado conmigo 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2hour ago.     Decembre 7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Davi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Okay…Gracias! Gabriela y yo vamos en 3 horas porqué estamos lejos de Floral Park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Voy a agarrarmi telefoñ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 mi cami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   Mart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stedes van a ir en la tarde? Y hola Mari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¿Qué tal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toy bien.¿Y tú?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Voy a hacer mi tarea más tard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Y David, Recuerde que usted recoge su hermana de la escuela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Buenas Noches amigas! ¡Ya voy a dormir!!!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480966_10151124980887477_1105329441_n.jpg"/>
          <p:cNvPicPr/>
          <p:nvPr/>
        </p:nvPicPr>
        <p:blipFill>
          <a:blip r:embed="rId1"/>
          <a:stretch/>
        </p:blipFill>
        <p:spPr>
          <a:xfrm>
            <a:off x="152280" y="8380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480966_10151124980887477_1105329441_n.jpg"/>
          <p:cNvPicPr/>
          <p:nvPr/>
        </p:nvPicPr>
        <p:blipFill>
          <a:blip r:embed="rId2"/>
          <a:stretch/>
        </p:blipFill>
        <p:spPr>
          <a:xfrm>
            <a:off x="2133720" y="24382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270100_128306570660437_2020124721_n.jpg"/>
          <p:cNvPicPr/>
          <p:nvPr/>
        </p:nvPicPr>
        <p:blipFill>
          <a:blip r:embed="rId3"/>
          <a:stretch/>
        </p:blipFill>
        <p:spPr>
          <a:xfrm>
            <a:off x="2133720" y="3124080"/>
            <a:ext cx="53316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2344788_f260.jpg"/>
          <p:cNvPicPr/>
          <p:nvPr/>
        </p:nvPicPr>
        <p:blipFill>
          <a:blip r:embed="rId4"/>
          <a:stretch/>
        </p:blipFill>
        <p:spPr>
          <a:xfrm>
            <a:off x="2057400" y="3733920"/>
            <a:ext cx="609480" cy="63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2344788_f260.jpg"/>
          <p:cNvPicPr/>
          <p:nvPr/>
        </p:nvPicPr>
        <p:blipFill>
          <a:blip r:embed="rId5"/>
          <a:stretch/>
        </p:blipFill>
        <p:spPr>
          <a:xfrm>
            <a:off x="0" y="4495680"/>
            <a:ext cx="609480" cy="633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6" descr="270100_128306570660437_2020124721_n.jpg"/>
          <p:cNvPicPr/>
          <p:nvPr/>
        </p:nvPicPr>
        <p:blipFill>
          <a:blip r:embed="rId6"/>
          <a:stretch/>
        </p:blipFill>
        <p:spPr>
          <a:xfrm>
            <a:off x="762120" y="4495680"/>
            <a:ext cx="53316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558763_451286248263457_1770639403_n.jpg"/>
          <p:cNvPicPr/>
          <p:nvPr/>
        </p:nvPicPr>
        <p:blipFill>
          <a:blip r:embed="rId7"/>
          <a:stretch/>
        </p:blipFill>
        <p:spPr>
          <a:xfrm>
            <a:off x="1373040" y="4572000"/>
            <a:ext cx="53208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406796_224187064380476_1486548717_n.jpg"/>
          <p:cNvPicPr/>
          <p:nvPr/>
        </p:nvPicPr>
        <p:blipFill>
          <a:blip r:embed="rId8"/>
          <a:stretch/>
        </p:blipFill>
        <p:spPr>
          <a:xfrm>
            <a:off x="228600" y="5562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523647_271748989573753_1942422869_n.jpg"/>
          <p:cNvPicPr/>
          <p:nvPr/>
        </p:nvPicPr>
        <p:blipFill>
          <a:blip r:embed="rId9"/>
          <a:stretch/>
        </p:blipFill>
        <p:spPr>
          <a:xfrm>
            <a:off x="990720" y="5562720"/>
            <a:ext cx="711000" cy="533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1053720" y="6095880"/>
            <a:ext cx="64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558763_451286248263457_1770639403_n.jpg"/>
          <p:cNvPicPr/>
          <p:nvPr/>
        </p:nvPicPr>
        <p:blipFill>
          <a:blip r:embed="rId10"/>
          <a:stretch/>
        </p:blipFill>
        <p:spPr>
          <a:xfrm>
            <a:off x="2133720" y="4419720"/>
            <a:ext cx="531720" cy="53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406796_224187064380476_1486548717_n.jpg"/>
          <p:cNvPicPr/>
          <p:nvPr/>
        </p:nvPicPr>
        <p:blipFill>
          <a:blip r:embed="rId11"/>
          <a:stretch/>
        </p:blipFill>
        <p:spPr>
          <a:xfrm>
            <a:off x="2133720" y="5334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4" descr="2344788_f260.jpg"/>
          <p:cNvPicPr/>
          <p:nvPr/>
        </p:nvPicPr>
        <p:blipFill>
          <a:blip r:embed="rId12"/>
          <a:stretch/>
        </p:blipFill>
        <p:spPr>
          <a:xfrm>
            <a:off x="2133720" y="5943600"/>
            <a:ext cx="60948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8:34:28Z</dcterms:created>
  <dc:creator>FriscoISD</dc:creator>
  <dc:description/>
  <dc:language>en-US</dc:language>
  <cp:lastModifiedBy>Luceros family</cp:lastModifiedBy>
  <dcterms:modified xsi:type="dcterms:W3CDTF">2013-01-03T03:32:21Z</dcterms:modified>
  <cp:revision>112</cp:revision>
  <dc:subject/>
  <dc:title>Profile</dc:title>
</cp:coreProperties>
</file>